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gif" ContentType="image/gif"/>
  <Override PartName="/ppt/media/image3.jpeg" ContentType="image/jpeg"/>
  <Override PartName="/ppt/media/image17.gif" ContentType="image/gif"/>
  <Override PartName="/ppt/media/image2.jpeg" ContentType="image/jpeg"/>
  <Override PartName="/ppt/media/image14.wmf" ContentType="image/x-wmf"/>
  <Override PartName="/ppt/media/image11.gif" ContentType="image/gif"/>
  <Override PartName="/ppt/media/image1.png" ContentType="image/png"/>
  <Override PartName="/ppt/media/image15.wmf" ContentType="image/x-wmf"/>
  <Override PartName="/ppt/media/image4.gif" ContentType="image/gif"/>
  <Override PartName="/ppt/media/image6.jpeg" ContentType="image/jpeg"/>
  <Override PartName="/ppt/media/image7.jpeg" ContentType="image/jpe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E5C8-DA04-415F-B3E6-5645D237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9380-1832-4D15-8456-B795C2C2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817-B63D-4F7F-B21B-96293300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A527-43FE-44A5-AFCC-58DCE0BA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735-DF29-47AE-9CC6-A7FE313A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7298-F7E0-4B0B-B7F8-6C462DBF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30CD-20BA-4970-A47F-92965D75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4BB9-B3C1-429F-8190-3075467D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CE92-CF09-43CD-86BB-CCE1225D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0D88-DD35-465B-A63D-538C464A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41AB-F950-4B21-9F94-807C186E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B700-9975-4F85-B605-5651A0FD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F72D-7760-4A42-A3CD-4246F1A53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18900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етская агрессивность и её прич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89000"/>
            <a:ext cx="8351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ути коррекции поведения де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2521080" cy="3672000"/>
          </a:xfrm>
          <a:prstGeom prst="rect">
            <a:avLst/>
          </a:prstGeom>
          <a:ln w="19080">
            <a:solidFill>
              <a:srgbClr val="0d33f3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683520" y="5537160"/>
            <a:ext cx="46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 Статут Ирина Джемс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 6   г.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189000"/>
            <a:ext cx="8713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Агресс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действие или только намерения, имеющие целью причинение вреда другому человеку, предмету. Агрессия может проявляться как физически (нанесение вреда здоровью людей, порча предметов), так и словесно (оскорбления, угрозы, унижения, преследования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773360"/>
            <a:ext cx="396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ля чего людям агресс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ство достижения какой-нибудь цели (отнять что-либо, принудить к чему-т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 самоутвер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щитное 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32360" y="1674720"/>
            <a:ext cx="4032360" cy="42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чины агрессивности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убое, жестокое поведение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гда ребёнок живёт в атмосфере неприятия его, нелюбви к н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аимоотношения со сверст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ношения в сем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тивоположные треб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оследовательность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обенности биологическ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92360" y="3789360"/>
            <a:ext cx="2449440" cy="273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948360" y="5013360"/>
            <a:ext cx="1727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 делать, если ребёнок агрессивен в своих высказываниях (употребляет нецензурные выражения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981000"/>
            <a:ext cx="8424720" cy="45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ясните детям, что люди используют ругательства лишь в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райн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учае, когда от отчаяния им уже не хватает сил и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едите сами за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обственн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еч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ребёнок спрашивает о значении того или иного бранного слова, не следует уходить от ответа. Постарайтесь так объяснить ребёнку значение слова, чтобы ему самому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 захотелос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его употреблять. В крайнем случае скажите, что слово настолько отвратительно, что вы не можете произнести это всл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ребёнок интересуется, почему люди произносят такие слова, скажите, например, что так говорят люди несдержанные и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воспитан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когда хотят обидеть или разозлить другого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ребёнок поймал на «нехорошем» слове вас, имеет смысл извиниться перед ним, сказать, что вам не удалось сдержаться, вы поступ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хо. Дайте ему понять, что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скрен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аскаиваетесь, и впред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чно, старайтесь держать себя в ру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78520" y="4365720"/>
            <a:ext cx="2265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98640" y="404640"/>
            <a:ext cx="53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грессия, направленная на окружающ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268280"/>
            <a:ext cx="338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ичин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желание самоутверд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защ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от безысхо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от несдерж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4149720"/>
            <a:ext cx="38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от неуверенности в себе и трев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показатель неумения вести себя, отсутствия навыков культуры поведения, избалованности, эго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3095640" cy="2952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643280" y="1341360"/>
            <a:ext cx="4105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23920" y="189000"/>
            <a:ext cx="689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бы быть успешным в обществе, человек должен на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844640"/>
            <a:ext cx="453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договарива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уступ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сдерживать свои эмо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выражать их более приемлемым способ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нужно развивать с раннего детства, опираясь на реальные ситуации. Чем больше уделяется этому внимания в жизни малыша, тем легче будет подростку реализовать себя в будущем. Ведь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умение находить компромисс, уважать мнение других люде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неотъемлемая составляющая любой профессиональ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383220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03160" y="260280"/>
            <a:ext cx="753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делать, если ребёнок агрессивен по отношению к окружающи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52640"/>
            <a:ext cx="662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рослым необходимо быть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последовательными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воих действиях по отношению к детям. Наибольшую агрессию проявляют дети, которые никогда не знали, какую реакцию родителей вызовет их поведение в этот раз. Например, за один и тот же поступок ребёнок в зависимости от настроения отца мог получить либо наказание, либо равнодушную реак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едует избегать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неоправданного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енения силы и угроз. Злоупотребление такими мерами воздействия на детей формирует у них аналогичное поведение и может стать причиной появления в их характере таких черт, как злоба, жестокость и упрям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жно помочь ребёнку научиться владеть собой. Дети должны знать о возможных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последстви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воих поступков. Надо дать понять ребёнку, что агрессивное поведение никогда не принесёт желаемого результата. Самое главное -научить ребёнка разряжаться, дать ему возможность использовать переполняющую его энергию «в мирных цел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l1_friends_o"/>
          <p:cNvPicPr/>
          <p:nvPr/>
        </p:nvPicPr>
        <p:blipFill>
          <a:blip r:embed="rId2"/>
          <a:stretch/>
        </p:blipFill>
        <p:spPr>
          <a:xfrm>
            <a:off x="6629400" y="5165640"/>
            <a:ext cx="2514600" cy="1692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983280" y="1052640"/>
            <a:ext cx="216072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92320" y="333360"/>
            <a:ext cx="67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делать, если ребёнок жесток по отношению к живот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1413000"/>
            <a:ext cx="5905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блюдайте за играми ребёнка. В играх дети реализуют и показывают свои мечты, фантазии и страхи. Если вы заметили, что в ходе игры ребёнок проявляет агрессию к игрушкам или домашним животным,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асторожитес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постарайтесь найти причины эт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Обсуждай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 ребёнком, на какого персонажа книги или мультфильма он хочет быть похож, почему тот или иной герой ему нравится или наобо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уч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ебёнка рассказывать о том, что его волнует. Пусть он привыкнет прямо говорить о своих чувствах: «я рассердился», «я обиделся», «я расстроил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 в коем случае в порыве гнева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 обзывай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ебёнка. Чем больше агрессии с вашей стороны, тем больше её зародиться в ребёнке. Тогда, не имея возможности ответить вам, дети отыграются на кошке, собаке или побьют более слаб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оянно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одавайте при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уманного по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2916360" cy="3220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2664000" cy="2085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667640" y="404640"/>
            <a:ext cx="666720" cy="476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8172360" y="4797360"/>
            <a:ext cx="666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33336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а поведения для родител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844640"/>
            <a:ext cx="799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фиксировать внимание на агрессивном поведении ребёнка, самим не проявлять грубости, жесток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ть внимательными к ребё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ще включать в общение тепло, доброе слово, ласковый взгля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значимо для человека и наказание, если оно следует немедленно за проступком, объяснено ребёнку, оно оценивает действия ребёнка, а не его человеческие качества. Наказывая ребёнка, родители должны проявлять терпение, спокойствие и выдерж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льному поведению, точнее умелому, надо учить ребёнка с самого раннего детства. Только добрый пример отца и матери может дать добрые всход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782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132000" y="4653000"/>
            <a:ext cx="3384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8064720" cy="5877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602280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36:21Z</dcterms:created>
  <dc:creator>Ирина</dc:creator>
  <dc:description/>
  <dc:language>en-US</dc:language>
  <cp:lastModifiedBy>user</cp:lastModifiedBy>
  <dcterms:modified xsi:type="dcterms:W3CDTF">2009-12-06T11:15:45Z</dcterms:modified>
  <cp:revision>5</cp:revision>
  <dc:subject/>
  <dc:title>Слайд 1</dc:title>
</cp:coreProperties>
</file>